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C03-310B-430E-8EB9-9F7BE8AF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7E9-DC4F-4C98-9F1A-266CC090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1D9-E85E-4828-B4F0-9AAF0BE3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84F-1AEE-4D3D-A045-7BC2780E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8D1-F839-451C-818E-04925092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476-D40A-4CE6-B827-9E45A9D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29E-F725-4583-9333-2B7CEEE8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9D5-2767-41FD-8FF8-1F943FAD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19F-3343-4709-9745-9F3FA566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BEB-ACE4-4921-B011-DFDEE75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B34-CD5B-43B7-B3A6-4B51DDD0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4AB-CBD9-4117-81FE-0836F40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AE9-1BD8-401E-9C3A-7ABB9E05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7861320" cy="168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2120" y="2932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2882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6960" y="4049640"/>
            <a:ext cx="28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of an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84440" y="501336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y value that makes the inequalit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86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16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4800" y="1752480"/>
            <a:ext cx="1066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2096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514600"/>
            <a:ext cx="2057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1981080" cy="36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1460520" cy="35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52880" y="3200400"/>
            <a:ext cx="14097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116920" cy="787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16765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1240" y="341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3595680" cy="49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4960" y="1295280"/>
            <a:ext cx="8879040" cy="106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3886200" cy="54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43434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65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8631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3:04:44Z</dcterms:created>
  <dc:creator>Graham</dc:creator>
  <dc:description/>
  <dc:language>en-US</dc:language>
  <cp:lastModifiedBy>Graham</cp:lastModifiedBy>
  <dcterms:modified xsi:type="dcterms:W3CDTF">2011-10-22T23:04:48Z</dcterms:modified>
  <cp:revision>1</cp:revision>
  <dc:subject/>
  <dc:title>Slide 1</dc:title>
</cp:coreProperties>
</file>